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412-95E2-4DE5-9582-2C11E119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608-8C65-4CF5-8829-B3093A37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873-68C1-4A8C-A22F-7BD22501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810-212D-4C6D-B32D-9CAAAA33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AF0-E50D-40CD-A438-F4DB6AF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073-1EFD-4BC9-80C6-EE33C2EC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FA9-98D7-42D3-B71E-A81284BC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BD9-44B8-45BB-8CF5-85AC4AD0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5CC-6BCF-4ED5-AE1E-A0005660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2FD-935E-4EE4-B63D-06EB2D50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701-5DD0-4095-99AD-BAA0F40E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AB7-AF4A-4A26-821B-8A17DC26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C36E-B3CE-4DCC-8928-024CDFC0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Part 3: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 Black"/>
              </a:rPr>
              <a:t>Blood Sp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3352680"/>
            <a:ext cx="29592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l velo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speed to which a free falling drop of blood can accelerate in air. It is dependent upon the acceleration of gravity and the friction of the air against the bl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25.1 feet/sec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um 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9200" y="1600200"/>
            <a:ext cx="7988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he shape of a blood dro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falls straight down at a 90 degree ang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lip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od droplets elongate as the angle decreases from 90 to 0 degrees; the angle can be determined by the following formu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ormula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419720"/>
            <a:ext cx="38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degree angles are perfectly round drops with 80 degree angles taking on a more elliptical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bout 30 degrees the stain will begin to produce a 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11400">
            <a:off x="6095880" y="121896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08800" y="2868480"/>
            <a:ext cx="1935000" cy="32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der and less porous the surface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 the blood drop will break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er and more porous the surface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 a blood drop will break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540400" y="1690560"/>
            <a:ext cx="2684520" cy="4073760"/>
            <a:chOff x="5540400" y="1690560"/>
            <a:chExt cx="2684520" cy="407376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5540400" y="1690560"/>
              <a:ext cx="2684520" cy="40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5540400" y="1690560"/>
              <a:ext cx="2684520" cy="407376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ea of Inters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Converg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05320" y="2131560"/>
            <a:ext cx="49528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location of the blood source can be determined by drawing lines from the various blood droplets to the point where they intersect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rea of convergence is the point of origin; the spot where the “blow” occurred. It may be established at the scene with measurement of angles by use of string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9400" y="1870200"/>
            <a:ext cx="2705040" cy="425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09680" y="4419720"/>
            <a:ext cx="533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8840" y="2233440"/>
            <a:ext cx="7745400" cy="32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, as a fluid, follows the laws of physic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893880"/>
            <a:ext cx="7239240" cy="32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Droplet Character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droplet will remain spherical in space until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falling from the same height, hitting the same surface at the same angle, will produce a stain with the same basic sha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 Droplet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roplet contains approximat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 cc    of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the same for all blood droplets, but is generally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 cc to _______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rectly dependent upon the surface or orifice from which it orig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area is call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ditions Affe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hape of Blood Drop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131560"/>
            <a:ext cx="7545240" cy="36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lean glass or p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rough 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9840" y="1690560"/>
            <a:ext cx="7986600" cy="40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istance between th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 ____________ and the →_____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int(s) of origin of the bl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blows, shots, etc. causing the bloodshed and/or the dispersal of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 Answered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ood Spatter Interpre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_______ of the victim and/or object during blood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___________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 the victim and/or object after bloodsh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0040" y="1599840"/>
            <a:ext cx="752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 of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odstain 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bloody object comes into contact with a surface and leaves a patterned blood image on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spat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t-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hat is thrown from an object in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odstain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st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stains caused by contact between a wet blood-bearing surface and a second surface which may or may not have blood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p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1:24:12Z</dcterms:created>
  <dc:creator>Theresa DeLaurentis</dc:creator>
  <dc:description/>
  <dc:language>en-US</dc:language>
  <cp:lastModifiedBy>Preferred Customer</cp:lastModifiedBy>
  <dcterms:modified xsi:type="dcterms:W3CDTF">2009-02-17T10:51:01Z</dcterms:modified>
  <cp:revision>2</cp:revision>
  <dc:subject/>
  <dc:title>Part 3:  Blood Spatter</dc:title>
</cp:coreProperties>
</file>